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9C40-ECFF-403A-99AE-64F6E44A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6DA4-1A21-48E8-8361-01174FEC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F43313-82D8-4CC6-B2E2-E99AF37C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04CB20-ED3E-4675-BA88-F9EAB4FE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20F8E-62ED-4CAB-A967-45A5A9A5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193AD4-EAC8-4846-AB1E-EFEE7D55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6044C9-40D9-412D-AB96-E2D4389D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157E93-EC85-4B06-A9DB-9826A3D2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E0393E-7603-4ADA-A51F-8017A7A7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2F84D9-FFF2-40EC-8B65-FABD4194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8F1FB7-9CC0-46D6-AB73-17BF1970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92AD9-0FC1-4D0B-A4AB-BD290F1F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ED69-3A1D-4BAD-904D-1C22349C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88E96-CFB9-494B-B5B9-3535181F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58C6D-9F4B-4A30-9BAB-6755F4B6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5C9BB-5C5F-47DC-A117-53775D4E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6AB1A-E0AF-4CE5-B7D7-25E0FC72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5AD54-E893-4F30-B999-78AF0351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8A206-F3C5-4E30-9779-EEECDF36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22CCA-E477-44B9-BCAD-574FBADD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9FC56-5B17-4E58-90A5-22AEC7C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1AAA2-C5A2-4032-B265-AD15987E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3DE9C-70CD-4996-B1B9-E5D4B9B0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CF62-50B4-4936-ABCC-782CE372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81E09-17E9-41B4-A031-BEC669D2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D7CC2-22B3-42D8-BF04-E0A13E0B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9FB89-F407-43F6-874C-18208175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9CB75-CBDC-4CA4-B417-E3B06F5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F9ABD-2C47-4EF4-8C2E-5D4FD38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6A1B0-5A77-4735-AC8B-219B2815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726F6-71FB-4A59-8857-D294AD00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7DB14-3A6C-41BC-896A-D2A73260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BA0AA-C91B-41BF-8796-2FE739CA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57837-1691-4FF3-B591-9DFF0894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806-E7BB-4770-9D28-1BB8AE79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88C26-6D74-4FA8-9D58-CAD0F22E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EE938-C9BC-4D77-BA90-E0C56C1F5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C1A4F-8877-46F4-B908-96B48725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8D401D-08C9-4ADE-8201-7A0A8DF7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C444A9-C60F-48EB-A96A-1F25C76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039706-D90F-4FFA-97E8-54D354C8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CC28DF-28EE-4D41-B0C2-6453F42F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885A70-C081-464B-AD29-7D45412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182793-3BD0-4D0E-94C1-A8C5689D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C122C4-FCEC-4A8E-8037-93B8112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AA5F-BBBE-4592-ADF2-F9B5A8D5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DB993B-2E75-47CD-897B-E226D4F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B47CBD-9872-4CE1-85C5-FB64D62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51E8DA-7452-40B3-9454-0EB4D384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EF5E7F-D8B3-4B5F-8C61-1D58417F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D728DF-0A6D-4862-9A56-249E99C5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DDBDC-D986-409B-B64B-8167E3FE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AE0FB-2786-431A-8923-620361CB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DF592-637E-4B47-900E-71368C4E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E6825-6397-4163-B74D-D5A5B4D2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3E1DF-91CA-4BBB-93A9-0FB87CC3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C26D-16A4-48D4-8723-98CE83B0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30838-8E49-44DA-BA24-E547AA2F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31C6D-3787-479A-A9F3-E746079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6002F-9DCA-4564-98E8-44897924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23017-986F-4611-B81D-4288A2DD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363CF-ABBF-44D6-98F4-F88FAD9C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32EE1-D74D-449A-B84E-74B8420A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77921-0D0C-48C0-ABCF-7A9A3F58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E6893-E3A2-4D18-8F97-EDB3958C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EB9FF-0ACF-492F-AE6A-D1A0948E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E46C6-8297-47CD-967E-5AD347B2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163E-69BC-4AC2-9E6F-510F1546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95436-31ED-4899-819F-3F7B82CD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FF052-D546-4EF4-A6CA-2B382CB1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B066B-B11C-4BD7-8426-F773F4D1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437EF-F491-4DFB-8F2D-C784CCD9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5B688-DC73-403C-A4BC-6117828F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CB5E4-59BE-4D75-9080-50CBC39C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99101-E83E-42B3-8B57-206C0946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F29CF-C9B9-4FE1-8094-C4433EE7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53CAA-7082-4474-A278-D8F89FAF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4F77B0-BEC2-4D77-B0B1-0E44468C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E6BB-66E2-445D-BFD8-DFB9DE98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BE17CB-8D2B-4285-BC1A-F3236377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FDBBAB-116A-4BA8-A908-783AC5FC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362437-1F73-47FF-8DF4-78223074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CB5ED1-4F51-4791-B4A5-D992C65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76DFF4-8BAD-472E-A7FC-2D44B650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BC6C22-6875-4138-8194-0F588758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431246-629E-4BB1-9F23-C88B3932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D1D905-C0E2-46F2-A1EC-47777512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D698EF5-1BAE-456A-A164-AA3D1AFB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6AC128-A14C-4838-8A17-1970B132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8224-169C-4AC9-B6D0-E8B182B3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FE7E9C-B694-46E9-9AFB-A78378B2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BA143-D4E3-499A-A03E-8AAAF20F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B92B6-7A4B-4A05-9D15-FB3842C5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D2F5C-297D-4ADC-907A-99CBD9EC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C0A39-A61A-4F4D-AB35-212FE6BD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D52F72-1194-47CD-8F33-F5894826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AAEC7-A1DC-40C7-85A2-CC52BE98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6E66D-F167-42B7-8E08-7AB42A6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0A685-1351-448B-A227-81D3CBD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284D5-7173-4691-A7FD-937DAEA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46CA-1B3A-4AAE-97DA-BABDC36D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D7FE8-2F5E-4321-9BF9-B437EE1E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591F7-7E78-4EB1-8192-366A81F2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C248E-A532-48FD-8650-0A04CDCC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5D437-CD9B-41B1-AE6B-A5527B3B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27A54-804B-4766-A043-F342F57B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85420-AF71-4E5B-8B7C-874626C8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4013F-4B95-4DB4-9514-36CE83B4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7ACB5-0292-4AC7-A2AA-B207CB58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888DB2-89CE-45AF-8C6C-F2A9AF62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04BC3-C8CC-4DB5-9E3C-F834647E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7E21-D6B3-45B0-8813-B7C22D1A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F8D1-5B6F-4516-AD6B-1015E78D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86F6A-027A-47FD-8D11-011C9D1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C3773-D6F7-475D-8B03-3ED651F3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D56B4-3DD1-4191-96FA-1A5D528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24076-1A4C-4E7A-9C31-38F2935D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26756-C16D-4118-B13B-25F7121A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9D296-2D08-453C-A170-5F4F12AD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5FDBA-6DDB-43ED-9F4C-82911C3A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963AD-7660-4FE0-992F-FC7C65C6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E552A-9594-4FCA-B507-76812059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57891-E0C0-4878-ABA0-9878BABD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9AEB-A789-4968-A028-938AC36D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5C254E-AF92-4828-9087-A9A53509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F60AC-AA40-4430-BE9A-4F0CA53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C18E9E-89E9-4C0E-9DB4-86014B5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169B6A-FF5D-4A4A-9B03-AAFE855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A0222-C883-4899-BE87-D601C8B0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F51D7-259F-44AE-BE79-441A812B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C84B6-807D-49AB-938D-529583F4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378A30-0642-47F0-A8CD-145118DC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B0C8C5-6083-439D-8146-52F065AA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1D83C4-BBC4-4F59-A4EC-6C95847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E446-9DB9-4704-A020-79A298F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F2B61-6BAE-4243-9C72-2EBC8019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787D9F-C221-469A-88D6-BB138E11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73124-90E9-4E2A-B0AB-A28A6B1C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0BDA9-93C7-40DB-AD95-E922CB6B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F79B1-926D-4913-9254-00E55C0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8730A-05FC-4703-99BD-33650E52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9FDB55-4806-4039-94E4-9B5FDE43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D7790-1CCA-4C61-8AF0-B13A2687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FEEBB-BDC7-41C9-BCBE-183E192C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187B5-21C3-49E1-A209-E3F6DB18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0290-68CC-4963-88A7-112738E8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60E369-1EDC-48AD-B968-539098A8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45EEA-640D-46A6-98F5-14936EDA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ECDC9A-78A7-4DD4-A739-034B6D44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72227-C3D6-4120-AA6D-156D437D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3CB8A3-D88D-4407-BF1D-249D15FE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B76E38-82DE-4D28-944D-D1E98117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B152D6-FF2E-40CD-BEF0-3CBEF233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26A8B-8DA5-443C-B5A0-9CBE6EEF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791C9-A2A8-465E-8909-D6F4BB15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A7435-B823-4853-BF51-600768CE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9006-10EE-4E4D-B375-3F5E7DEC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7D034-99DB-4FF5-A4B0-5CE84A49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E53A6-F28E-4063-A0E9-5061C26F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DCB1D-B813-4FF4-AFE4-1EC1D476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B032F-8660-4A83-824F-74C4296B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A674-E988-4906-911D-E051C871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0A67F-FAE7-4264-8679-ADE18673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0BCA-8A12-4E04-96C8-C44F7297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38E6-01BF-453D-90F5-8ECC2698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FE25-4ACC-4D74-A13A-6E13510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6D89-5B90-48B3-B972-91D361A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24D0-9A9D-404E-A8C6-049F5ED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8CED-1A22-4186-9061-83CBA1B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73B1-77F2-4C0D-989F-FB47C10C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11144-0009-4B5F-9FE3-C4DBBEDA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63C61-857B-4DB3-A220-59B79FAB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398CA-6817-4DE4-9166-69F92F64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18729-3758-4421-A66C-C60A6635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431C-2AF4-474C-BCC8-935E37B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2C5FF-1CB5-4FA8-A552-C6903A95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3C1D8-4298-419B-964C-D41451AE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B6820-1B01-474C-B741-0BC56F37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F8C59-0348-4358-A334-A7E56709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42BD3-26AA-43C0-BAFF-23B6FFB2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D4E84-4012-4887-B920-A50C757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84D62-A6A5-4BDB-8A18-EFA789C0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95A53B-F044-4A0B-B9DF-261E2903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63DF9-0F12-4960-A287-50F3DE73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5A56-2649-40F2-BFA4-01EC76C6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E245-22C0-4540-AAD0-C4356F9D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F81FC-8C16-4902-A0E5-3821A034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C6BC-E7FB-4B4B-93DE-C80E1CFC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96DE-E555-4054-B1DD-C1C2598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4E445-EB7C-46EB-B56B-A3F098A4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A815B-0630-40A2-AB42-F6DF0633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7AE7-EF00-4DFE-B107-399D7A34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84107-B052-461B-9F8D-5B4A410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E91BE-AA78-4444-A64A-29B174E9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C7586-D321-4C27-8467-B2665B8A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BEE01-5E45-44C1-A09A-818231D1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645E-0727-431C-8864-D937F9A4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F41E4-B394-47F5-8A10-E2C89294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F123C-C7AA-461A-8B85-DA60587B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41575-FE44-4BB9-9478-85C346BA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6C3E-2387-47F3-85A1-C3C1488B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60E65-2766-4879-867A-1B3FD52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A873B-819F-426C-9FFB-5818930C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D6054-DE46-40BF-91CA-8C14BC7A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7DDC1-CFAB-4B06-A34E-A08291A3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D2AF-98DB-4CB6-B1D6-D06EA3B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51933-11BE-46EB-8AF3-8E7F6C52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8384-CF56-4236-8F0B-09CF50BA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DE188-BBA3-4404-968F-A1D7E7B9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44D5-C9F8-4B41-A523-1BDB87A7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F4E6-4CA0-47FC-9A45-EAD329E3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3863-3F16-4194-B05E-5325E544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352FA-9DEC-4161-BF49-1E06C7A5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5F4D1-8F97-45FB-B4E9-90225843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87804-D62C-40AD-8B8D-ECBA687F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32070-2B3F-4723-AFC6-DAE18F45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5C0E5-D6CE-4273-976D-672C1A19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70D58-18F1-4BF9-ABA5-20EECDC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2ED4-BD56-4661-AF30-0BC26BB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7C5C-5E1A-4443-A8FB-69815A58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6B324-6293-4237-889E-CB0F035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94CC7-785E-48C1-B49E-954411E5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0E8B1-B21F-48EE-8428-627ED6EB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0260-B1C0-4565-B725-3924D5BD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E392E-EA77-422B-947A-50D34CF1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D4CBA-1313-4470-9A8F-C47ECC3E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2316A-90A4-4103-9EB3-B909D5D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88971-280E-4D0D-8DC0-A00A0EB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D4177-F170-439E-A084-3C251F50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66DC-F823-4110-93D9-5EB1820E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18DC-252C-49BE-B836-AF4DE3F7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52E24-3249-448C-98EA-F51E1984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1FFA8-F313-4256-ACCE-DA7B3A4E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E5EA1-416A-4F16-BED9-37E76DE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F67AF-972B-4681-9269-57FFE931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3F211-D8F5-439C-B9D0-D1900F9E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6160D-A54B-41FB-A481-787C2F9F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162D89-92A4-4044-9F7E-7B20FFDE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18C13-A35F-4E1F-B3E7-7742402E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5ECCB5-11B7-4168-A2D5-9876FB27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6BEE-8433-412B-9042-E2C53B9FA9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F979-1780-4C1E-9EB1-63D1638D0A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0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0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BF14-A17C-4A31-883D-2C48B2B301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6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7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EC31-DCA5-4614-B9D8-0AC44B28B0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FA1D-1E3A-4AAF-9F88-2EA7C39C2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4747-D162-48BD-942A-CDEFDB5E3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743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8" name="PlaceHolder 1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281D-01D5-4988-BE3C-9E4366C8B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dt" idx="4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ftr" idx="4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0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FF21-9039-4B8F-9180-BDDB8AC08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5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5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6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7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7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7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8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8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8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9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1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1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2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3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4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35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5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36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36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6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2F49-4A71-424D-A309-E5B1CD09FC2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43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3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43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4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4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5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6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7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7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8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8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9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9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1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1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2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3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3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54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54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55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527-8A56-4604-B0F6-FF982C09B16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05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F2CF-0E95-42AD-ABF0-B528527552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6856-9C1B-4E32-B556-62B1AAE919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49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1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A76F-CBD0-4F55-ADAD-0642EE98A3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0207-ABC9-401F-9215-1DBD29AE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81EC-99D1-4D1A-8286-9ADC431A0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2878-0634-4925-B92E-753E895C0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E45F-3CB9-4272-880C-A48922528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BD4E-0CE6-40B3-B20B-0D84782C3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5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5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5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827B-E662-46A6-9B72-6D9C7459F5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5FEA-A38D-4244-8E00-BD8960019D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0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0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i impresionante Mansi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Tahoma"/>
              </a:rPr>
              <a:t>ó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n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Samantha Schult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 un garaj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21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5333760" cy="2936880"/>
          </a:xfrm>
          <a:prstGeom prst="rect">
            <a:avLst/>
          </a:prstGeom>
          <a:ln w="0">
            <a:noFill/>
          </a:ln>
        </p:spPr>
      </p:pic>
      <p:sp>
        <p:nvSpPr>
          <p:cNvPr id="1722" name=""/>
          <p:cNvSpPr/>
          <p:nvPr/>
        </p:nvSpPr>
        <p:spPr>
          <a:xfrm>
            <a:off x="1752480" y="21337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nuevo y estupend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gracias!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! </a:t>
            </a:r>
            <a:r>
              <a:rPr b="0" lang="en-US" sz="42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Adió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 Man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mans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es grande y bell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2286000" y="2973240"/>
            <a:ext cx="4343400" cy="288936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s una cocin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697" name="" descr=""/>
          <p:cNvPicPr/>
          <p:nvPr/>
        </p:nvPicPr>
        <p:blipFill>
          <a:blip r:embed="rId1"/>
          <a:stretch/>
        </p:blipFill>
        <p:spPr>
          <a:xfrm>
            <a:off x="2057400" y="2941560"/>
            <a:ext cx="4419720" cy="2438640"/>
          </a:xfrm>
          <a:prstGeom prst="rect">
            <a:avLst/>
          </a:prstGeom>
          <a:ln w="0">
            <a:noFill/>
          </a:ln>
        </p:spPr>
      </p:pic>
      <p:sp>
        <p:nvSpPr>
          <p:cNvPr id="1698" name=""/>
          <p:cNvSpPr/>
          <p:nvPr/>
        </p:nvSpPr>
        <p:spPr>
          <a:xfrm>
            <a:off x="1828800" y="2590920"/>
            <a:ext cx="662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80880" y="2057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lujosa y bonit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s un comed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1" name="" descr=""/>
          <p:cNvPicPr/>
          <p:nvPr/>
        </p:nvPicPr>
        <p:blipFill>
          <a:blip r:embed="rId1"/>
          <a:stretch/>
        </p:blipFill>
        <p:spPr>
          <a:xfrm>
            <a:off x="1266840" y="2895480"/>
            <a:ext cx="5349960" cy="292284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533520" y="18288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mag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co y antigu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s una sa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4" name=""/>
          <p:cNvSpPr/>
          <p:nvPr/>
        </p:nvSpPr>
        <p:spPr>
          <a:xfrm>
            <a:off x="609480" y="1828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o y luj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2246400" y="3610080"/>
            <a:ext cx="4375080" cy="2289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 un b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ñ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bello y antig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8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572000" cy="3110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un cuarto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moderno y incred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441972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 un patio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bello y boni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s un jard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Arial"/>
              </a:rPr>
              <a:t>í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grande y muy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657600" cy="2703600"/>
          </a:xfrm>
          <a:prstGeom prst="rect">
            <a:avLst/>
          </a:prstGeom>
          <a:ln w="0">
            <a:noFill/>
          </a:ln>
        </p:spPr>
      </p:pic>
      <p:pic>
        <p:nvPicPr>
          <p:cNvPr id="1718" name="" descr=""/>
          <p:cNvPicPr/>
          <p:nvPr/>
        </p:nvPicPr>
        <p:blipFill>
          <a:blip r:embed="rId2"/>
          <a:stretch/>
        </p:blipFill>
        <p:spPr>
          <a:xfrm>
            <a:off x="6172200" y="2286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19" name="" descr=""/>
          <p:cNvPicPr/>
          <p:nvPr/>
        </p:nvPicPr>
        <p:blipFill>
          <a:blip r:embed="rId3"/>
          <a:stretch/>
        </p:blipFill>
        <p:spPr>
          <a:xfrm>
            <a:off x="609480" y="236232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5:28:00Z</dcterms:created>
  <dc:creator>schultzsam</dc:creator>
  <dc:description/>
  <dc:language>en-US</dc:language>
  <cp:lastModifiedBy>schultzsam</cp:lastModifiedBy>
  <dcterms:modified xsi:type="dcterms:W3CDTF">2012-03-28T18:07:48Z</dcterms:modified>
  <cp:revision>5</cp:revision>
  <dc:subject/>
  <dc:title>Mi impresionante Mansion!</dc:title>
</cp:coreProperties>
</file>